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7EC1-8B22-40BE-A13A-50984706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4795-2916-421E-B656-A5619450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F7A-9D6B-42D5-B3F4-74B72589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25F5-9EEC-4E96-ACC9-C43AA128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C230-E348-4458-BCBB-B79AD93C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B4B9-7C36-4571-AAF3-82F394D4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F6F7-44F6-4D1A-921D-666DB042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F0D2-2BE6-4F58-8816-F07981A9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F151-E955-4E03-B5C4-877519B1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BB47-65DE-4645-A547-60ABD697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BC3B-CCEA-4717-88E1-2CFED238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A84-F924-4624-9E19-EF837BD8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2A7B-64FE-4936-92DF-CF8666F9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2CAE-6E9C-4276-B6C0-F69F2528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10A6-D501-4300-BC61-15C754F9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7392-12C0-4581-AD55-2BFF1691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DD73-1B4C-4E39-9DD9-569FA6BE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A6B4-21D2-4AF2-935E-6B3F7633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9A91-F9FC-4A54-9915-BC660BAC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001-C2F1-40C5-A645-887497A3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04A5-6772-4F80-A604-E786E427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620D-21A8-4C3D-9087-A67A922A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5D9F-5D61-4D66-9733-0A94B90C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DDDE-537F-4E51-9A8A-0DDC5A04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1754-F99B-45C8-8E41-7711B606D3C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4C39-FE83-4C34-9551-A6C46BFA6E9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了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可编程控制器的硬件结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了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可编程控制器常见应用系统的组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常用编程元件的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编程软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一般应用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1916280"/>
            <a:ext cx="75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训内容—计数器、特殊功能辅助继电器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的应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75920" y="2448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33400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计数器的一般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典型用途特殊功能辅助继电器的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学会使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程软件在电脑上编辑梯形图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0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67960" y="5723640"/>
            <a:ext cx="25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2-9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输入输出继电器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14720" y="5771160"/>
            <a:ext cx="27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-1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参考梯形图及指令表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744720" cy="3720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4643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92000" y="2509920"/>
            <a:ext cx="835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三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应用比较广泛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一，它由基本单元、扩展单元、扩展模块及特殊功能单元构成。其中基本单元内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主机，扩展单元用于增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数，扩展模块用于改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的比例，特殊功能模块用于模拟量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、网络通信等。三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编程元件有输入触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输出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辅助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定时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计数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状态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数据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变址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指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常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/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思考并将合适的答案填于空白处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定时器的线圈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开始定时，定时时间到时其常开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常闭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用定时器的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被复位，复位后其常开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常闭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当前值变为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部计数器的复位输入电路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计数输入电路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当前值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定值时，计数器的当前值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计数当前值等于设定值时，其常开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常闭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再来计数脉冲时当前值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复位输入电路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计数器被复位，复位后其常开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常闭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当前值为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不能用于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继电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⑤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初始化脉冲，在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它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N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个扫描周期。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处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时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8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直为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⑥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程元件中只有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元件号采用八进制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91440" y="145980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91440" y="145980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1800" y="1903320"/>
            <a:ext cx="822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八进制数和十六进制数只是二进制数的一种较为方便的写法，但二进制数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是两个不同的概念，一个多位十进制数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和二进制数是不一样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：十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和二进制数分别写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进制数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010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进制数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11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很多指令中，既有对二进制数的运算处理，也有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的运算处理，并且有二进制数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的相互转换指令，使用时应予以区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思考和计算，并把结果填入空格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不同数制中应分别写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六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1101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不同数制中应分别写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1280" y="1483920"/>
            <a:ext cx="42292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320" rIns="90000" tIns="84240" bIns="8424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8532720" cy="2168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860436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36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br>
              <a:rPr sz="3800"/>
            </a:b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344840" cy="4724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7728" t="13908" r="10029" b="9645"/>
          <a:stretch/>
        </p:blipFill>
        <p:spPr>
          <a:xfrm>
            <a:off x="4290840" y="260280"/>
            <a:ext cx="48531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3049560"/>
            <a:ext cx="28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-□□M□-0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典型输入外部配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538" r="0" b="1109"/>
          <a:stretch/>
        </p:blipFill>
        <p:spPr>
          <a:xfrm>
            <a:off x="3276720" y="1292400"/>
            <a:ext cx="586728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87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30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12760" y="2212920"/>
          <a:ext cx="8642160" cy="4548240"/>
        </p:xfrm>
        <a:graphic>
          <a:graphicData uri="http://schemas.openxmlformats.org/drawingml/2006/table">
            <a:tbl>
              <a:tblPr/>
              <a:tblGrid>
                <a:gridCol w="1220760"/>
                <a:gridCol w="1227240"/>
                <a:gridCol w="1290600"/>
                <a:gridCol w="1226880"/>
                <a:gridCol w="1108080"/>
                <a:gridCol w="1127160"/>
                <a:gridCol w="1441440"/>
              </a:tblGrid>
              <a:tr h="75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源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 24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源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 24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入点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出点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可连接的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继电器输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晶体管输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继电器输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晶体管输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zh-CN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zh-CN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ER-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8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8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zh-CN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zh-CN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8ER-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8ET-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2440440" y="1669320"/>
            <a:ext cx="47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1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带电源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扩展单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93480" y="1551960"/>
            <a:ext cx="488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1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不带电源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扩展模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01640" y="2117880"/>
          <a:ext cx="7772400" cy="46321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 入 模 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继电器输出模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晶体管输出模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 入 点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 出 点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EY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EY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Y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Y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Y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Y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1557000"/>
            <a:ext cx="56991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编程元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40160" y="2203560"/>
            <a:ext cx="189324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输入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继电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出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继电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辅助继电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通用辅助继电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掉电保持辅助继电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特殊功能辅助继电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定时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通用定时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累积定时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计数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加计数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双向计数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高速计数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2050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状态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初始状态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回归原点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一般通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保持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数据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通用型数据寄存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保持型数据寄存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特殊功能寄存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变址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指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用于子程序调用的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号的指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用于中断服务程序入口的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号指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常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18576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br>
              <a:rPr sz="4200"/>
            </a:b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br>
              <a:rPr sz="4200"/>
            </a:b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48000" y="0"/>
            <a:ext cx="524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4320" y="1694160"/>
            <a:ext cx="667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4560" y="1557360"/>
            <a:ext cx="28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定时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闪光控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69000" y="6222240"/>
            <a:ext cx="23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-6 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闪光控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38720" y="6236280"/>
            <a:ext cx="18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-8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演示电路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3303720" cy="4105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284720" y="2637000"/>
            <a:ext cx="462132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6T01:26:56Z</dcterms:modified>
  <cp:revision>34</cp:revision>
  <dc:subject/>
  <dc:title>模块二  S7-200系列PLC的基本结构 </dc:title>
</cp:coreProperties>
</file>